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602020"/>
        <c:axId val="81931859"/>
      </c:barChart>
      <c:catAx>
        <c:axId val="336020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31859"/>
        <c:crosses val="autoZero"/>
        <c:auto val="1"/>
        <c:lblAlgn val="ctr"/>
        <c:lblOffset val="100"/>
        <c:noMultiLvlLbl val="0"/>
      </c:catAx>
      <c:valAx>
        <c:axId val="819318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020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C036-46F8-4C15-95A4-AE0E4ECB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2B4-6315-46DC-839B-CA7BC1A10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C029-263F-4B23-A024-B77961E0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240-D74C-460E-9760-F28373207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EA6C-8ECE-4522-BD04-5B01B805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11C4-2F73-4C4F-BE7D-7B864910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3EE1-B756-4F6E-B489-17E7DF06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3230-B1D0-4775-89F0-84061407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8B8-1053-4572-8717-812738D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727C-43E8-4BFC-AAF2-8D043A42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F18B-273F-4557-950A-F57D80FC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54B5-02C8-451C-A215-708939B6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9CA4D-901E-4D0E-A484-3B732C0BD8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