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100522"/>
        <c:axId val="85484987"/>
      </c:barChart>
      <c:catAx>
        <c:axId val="77100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84987"/>
        <c:crosses val="autoZero"/>
        <c:auto val="1"/>
        <c:lblAlgn val="ctr"/>
        <c:lblOffset val="100"/>
        <c:noMultiLvlLbl val="0"/>
      </c:catAx>
      <c:valAx>
        <c:axId val="85484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00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ACD-273E-4C57-991B-FEC935AF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F2D-59FA-4BD9-A748-2259195B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8A8-D7BE-4B80-9A71-DE6A4A7B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549-A1BE-4626-B249-AE236F43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30B-381A-46D8-AF53-E5025339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EBC-7A86-4583-96EF-25E614BA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8BF-E074-4284-B747-8C26A8B7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4524-064E-4460-BE67-E739EF42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165-3B29-4005-8473-520C8CB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1A5-82D5-43CB-8F8E-E1A3A377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987-9BCE-4DE5-880B-FFE7BB7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F01A-1C10-4C17-876A-876132E4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3309B-9817-402C-A4F8-4FF0D67158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