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50134"/>
        <c:axId val="87055974"/>
      </c:barChart>
      <c:catAx>
        <c:axId val="90450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55974"/>
        <c:crosses val="autoZero"/>
        <c:auto val="1"/>
        <c:lblAlgn val="ctr"/>
        <c:lblOffset val="100"/>
        <c:noMultiLvlLbl val="0"/>
      </c:catAx>
      <c:valAx>
        <c:axId val="87055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0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D34-CC71-4B79-AC38-8E8ED9C2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5AA-CF1D-40AA-A2CF-3CD305B9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798-92F1-42B2-B076-64B46E6D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A6F-F6EA-4ED3-BB7A-E264A813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C2A-225C-424F-8AA8-05434DB7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825-1B8B-4BCD-A7C1-03C7BA1E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CB5-201F-432B-9FD0-D25FBB6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B6D-C7FB-46FA-9066-52ECF94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FAD-C4B0-4EBE-BEB0-3283834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3BA-010C-46D8-850F-F93EF42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D33-23FF-4FD8-9AE2-6931313F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751-76A8-41EC-89E9-84E7602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BAA22-EC2C-4A37-B092-7B7DDAD10E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