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57248"/>
        <c:axId val="63871455"/>
      </c:barChart>
      <c:catAx>
        <c:axId val="71757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1455"/>
        <c:crosses val="autoZero"/>
        <c:auto val="1"/>
        <c:lblAlgn val="ctr"/>
        <c:lblOffset val="100"/>
        <c:noMultiLvlLbl val="0"/>
      </c:catAx>
      <c:valAx>
        <c:axId val="63871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7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83E-07E1-4BEC-A7EC-99F4C6F7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23C-774F-4F43-9982-6D72489F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727-9837-444E-B657-DE2D8E51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3D5-E6C5-43AA-B246-B00EC011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998-D2FD-4D8A-9923-F0DAACAD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152-4C5F-4673-856F-B281D096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833-4397-48B8-8766-8B99975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88B-71F6-4117-9D41-BF7D97A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07C-4827-4400-8D0B-622B196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81D-99A4-4C6C-87C3-E1048BA2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45D-00FD-4853-8991-E27169D2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33A-7446-4D49-BB98-1DA7B80D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128A-C6EA-4FF1-B9B9-0B9D55C5B4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